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C83-AC7B-4705-8BDD-6610B2BA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025-8518-4DE5-95DF-26FAFED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A69-21C4-4E9A-A927-5DAF804D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2CA-615B-4EF4-8F12-FA797AE0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F7A-8C56-4C12-851D-F193EF58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11A-4941-4AE7-BCA0-4D2E0FDA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C4A-639E-40B6-86FE-30883DC6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03B-DACC-4CF2-BFF4-383C4CF0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D35-D786-486E-9223-5731401E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378-3163-4F04-AFFA-33C601AD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8C0-8E80-4B03-B2B8-1F3A297B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6DC-C2C6-4B86-B5A5-791C674C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ABCB-F21A-42A6-97AE-954CAE1D2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00" y="21924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Learner Profile in Ac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does it mean to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3120" y="2592360"/>
            <a:ext cx="109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C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9800" y="3441600"/>
            <a:ext cx="154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Refl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200" y="4290840"/>
            <a:ext cx="173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Princip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00080" y="5329080"/>
            <a:ext cx="219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6640" y="5931000"/>
            <a:ext cx="219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Open-mi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4880" y="5264280"/>
            <a:ext cx="12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Inquir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08800" y="4351320"/>
            <a:ext cx="12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Thin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58040" y="334332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Commun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87880" y="2492280"/>
            <a:ext cx="155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Risk-t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14800" y="1773360"/>
            <a:ext cx="22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Knowled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25760" y="5364000"/>
            <a:ext cx="0" cy="614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86160" y="2430000"/>
            <a:ext cx="0" cy="58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281560" y="2784240"/>
            <a:ext cx="723960" cy="231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81560" y="3576240"/>
            <a:ext cx="1160640" cy="20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5960" y="4435560"/>
            <a:ext cx="1214280" cy="12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81560" y="5349960"/>
            <a:ext cx="709560" cy="13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48040" y="5349960"/>
            <a:ext cx="450720" cy="1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01680" y="4491000"/>
            <a:ext cx="1270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142720" y="3712680"/>
            <a:ext cx="1241640" cy="16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496960" y="2838600"/>
            <a:ext cx="874800" cy="20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2440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Teachers Talk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want your students to ‘be’ at the end of their......edu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r Profile from staff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the LP in Essential Agreements for learning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 reflections/self-assessments-portfol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ing LP in Pastoral Care Program/Behaviour Guidanc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LP attributes in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/highlight LP in curriculum documentation – planners, scope an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brating evidence of the LP in whole school community – assemblies, newsletters, school website, boards around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9200" y="21924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Learner Profile in Ac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does it mean to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3120" y="2592360"/>
            <a:ext cx="109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C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9800" y="3441600"/>
            <a:ext cx="154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Refl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00" y="4290840"/>
            <a:ext cx="173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Princip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00080" y="5329080"/>
            <a:ext cx="219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6640" y="5931000"/>
            <a:ext cx="219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Open-mi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4880" y="5264280"/>
            <a:ext cx="12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Inquir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08800" y="4351320"/>
            <a:ext cx="12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Thin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58040" y="334332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Commun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87880" y="2492280"/>
            <a:ext cx="155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Risk-t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14800" y="1773360"/>
            <a:ext cx="22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Knowled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25760" y="5364000"/>
            <a:ext cx="0" cy="614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86160" y="2430000"/>
            <a:ext cx="0" cy="58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281560" y="2784240"/>
            <a:ext cx="723960" cy="231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281560" y="3576240"/>
            <a:ext cx="1160640" cy="20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95960" y="4435560"/>
            <a:ext cx="1214280" cy="12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81560" y="5349960"/>
            <a:ext cx="709560" cy="13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948040" y="5349960"/>
            <a:ext cx="450720" cy="1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101680" y="4491000"/>
            <a:ext cx="1270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142720" y="3712680"/>
            <a:ext cx="1241640" cy="16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496960" y="2838600"/>
            <a:ext cx="874800" cy="20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2440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9:58:45Z</dcterms:created>
  <dc:creator>janssensj</dc:creator>
  <dc:description/>
  <dc:language>en-US</dc:language>
  <cp:lastModifiedBy>JanssensJ</cp:lastModifiedBy>
  <dcterms:modified xsi:type="dcterms:W3CDTF">2012-03-12T08:12:46Z</dcterms:modified>
  <cp:revision>3</cp:revision>
  <dc:subject/>
  <dc:title>International-mindedness What does it mean to you?</dc:title>
</cp:coreProperties>
</file>